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BCE-99CA-49B8-88D7-FEBCB45A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3EE-8BC7-4DE3-A06B-2F8E5C09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B76-5A76-4F68-AD0A-CD837E67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A32-B132-45E5-927A-47A9E199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7963-076D-4340-B27F-F05338D9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C086-A1AE-4FAD-BD27-BA67385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6AF-992D-46E1-8C5B-7EB4834F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23A-FF8D-412F-B3EC-EB21CC7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954-2004-4D20-9C2B-AEEB215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9B60-F9D3-4AB8-A4E4-0413E18F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1F1-91FC-4A31-AB17-6616CAA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C9A-FB53-4DD5-9C1C-3A549A9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536-2480-495B-AA32-71A39ED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C9AA-B8D7-409A-9366-DF606E9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F01-BCBD-4223-A5F4-3E98BA8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ADCB-FA44-456C-B6BC-CAD368FA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62C-5DC4-4673-9680-FDE956FA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EFD-685D-46C6-BDBA-8D6C5B6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187-3693-4D68-9E5F-EDD87B85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958-BF71-4D38-83ED-B9D0476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7BF-E2AD-40FC-B719-EEC1BD8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1D4-6803-48DF-A838-E7793650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383-5318-498E-9553-F0120E1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265-3140-4250-9458-3D39210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D37-8C60-4945-A8E8-F40F27DFD1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7B4-F683-48BE-8898-1428A1CB334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2205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Meiryo"/>
              </a:rPr>
              <a:t>Maori Earl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Meg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&amp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AY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2:42:18Z</dcterms:created>
  <dc:creator>5d05</dc:creator>
  <dc:description/>
  <dc:language>en-US</dc:language>
  <cp:lastModifiedBy>5d05</cp:lastModifiedBy>
  <dcterms:modified xsi:type="dcterms:W3CDTF">2013-06-05T03:00:54Z</dcterms:modified>
  <cp:revision>2</cp:revision>
  <dc:subject/>
  <dc:title>                Early Maori</dc:title>
</cp:coreProperties>
</file>